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76B5-F508-484F-A004-85DFD5BFA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8AE2-E9F8-491A-B064-10B17D680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F123-2320-4637-A9C6-DFB91484B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B954-A302-464E-8FF6-339BFF7F4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9CC6-0BED-4C9E-9DAB-165092EB0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E1CA-2FA4-4B6F-B63D-AB31612D8D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D2E-F116-4929-B320-BD69CFCD42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E3B-A520-428F-8A22-97B23FA908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A76-89B1-4911-B318-AC238AB6A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EA66-ABBD-4445-8184-01851EEDB9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867-5944-4043-90BE-C93F8D67A2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989-EB00-49CC-8C60-D74ED77432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CF4-98FF-4C2B-A538-697E83800E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B89-B8E9-4BCA-8721-52441E13B7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879-A4E9-4375-8772-B99B879570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06A-489D-4996-A8AE-2992077E90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091-F788-4245-9FC2-AEA1F3D512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7ED-A68A-44A7-9C95-7C6DD0C341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C0B-C26D-4AA4-A1B5-7483FCB8CA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B031A-08E9-43BE-BBAD-458CB7F96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651C-7E45-467D-AA9B-3A1A107380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040EA-E5A6-4BE1-A56C-069A86C081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D338-5A5D-4B12-87BC-18966F4822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633CE-8233-43B7-BDED-8A5D9BD15B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5D6A3-6234-4606-8155-36A2A41F3E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9F5E6-363E-428E-8614-E9D05E08F7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59C17-702F-4505-851F-466EB6F223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87943-A522-4EFA-928F-CB37656326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2940-9C54-4ABB-999E-1322C6E81F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26969-66FD-4689-9778-1C820FC615B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42B78-7176-49FF-9E51-E6C9CBC7A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FDAC-7024-450A-8015-6997A7F8A0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AF924-2F19-4741-BFD2-4738F45668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E320-DFEE-438B-AF35-93CD93BCBB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CE23-355B-456D-B7C6-2962FB862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9485-FFC7-4628-ACD7-521DE5862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3B9-AE22-4811-B75E-0F05135F4F67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D023-5D96-485F-A5CC-60F765BB61D2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C8A-92D6-4589-AE8F-35AB89666586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DFD0-17C7-4773-B223-467011C79EFB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16000" y="2023920"/>
            <a:ext cx="410364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52720" y="5157360"/>
            <a:ext cx="496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Dña. María Vega Gil Díaz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irectora de la Dirección de Certificación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pra Pública Innovadora del CD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1403280" y="309420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JORNADA INSTITUCIONAL DE PRESENTACIÓN DE LA CONSULTA PRELIMINAR DEL MERCA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RETO TECNOLÓGICO PRESERVACIÓN DE ÓRGANO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20 enero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lam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217440" y="1268280"/>
            <a:ext cx="4008600" cy="331308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71960" y="1197000"/>
            <a:ext cx="49640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ministración Pública usuari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7 Diagrama" descr=""/>
          <p:cNvPicPr/>
          <p:nvPr/>
        </p:nvPicPr>
        <p:blipFill>
          <a:blip r:embed="rId2"/>
          <a:stretch/>
        </p:blipFill>
        <p:spPr>
          <a:xfrm>
            <a:off x="6461280" y="4979880"/>
            <a:ext cx="2658960" cy="1128960"/>
          </a:xfrm>
          <a:prstGeom prst="rect">
            <a:avLst/>
          </a:prstGeom>
          <a:ln w="0">
            <a:noFill/>
          </a:ln>
        </p:spPr>
      </p:pic>
      <p:sp>
        <p:nvSpPr>
          <p:cNvPr id="329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rior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826920" y="1574640"/>
            <a:ext cx="2891160" cy="3173400"/>
          </a:xfrm>
          <a:prstGeom prst="rect">
            <a:avLst/>
          </a:prstGeom>
          <a:ln w="0">
            <a:noFill/>
          </a:ln>
        </p:spPr>
      </p:pic>
      <p:sp>
        <p:nvSpPr>
          <p:cNvPr id="333" name="6 CuadroTexto"/>
          <p:cNvSpPr/>
          <p:nvPr/>
        </p:nvSpPr>
        <p:spPr>
          <a:xfrm>
            <a:off x="383076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59C-DF89-4716-8CE4-36CCC6F802A6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187280" y="1793880"/>
            <a:ext cx="7291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C2B-79DE-4B52-9B5F-0860C33CF7FE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500040" y="355680"/>
            <a:ext cx="84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Llamada de expresiones de interé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14320" y="1967040"/>
            <a:ext cx="7515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A23-7CD1-42EA-B9EE-A25013534431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CP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9 CuadroTexto"/>
          <p:cNvSpPr/>
          <p:nvPr/>
        </p:nvSpPr>
        <p:spPr>
          <a:xfrm>
            <a:off x="3902040" y="1557360"/>
            <a:ext cx="51339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talleres técnicos, 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5CE1-72C0-4E05-91A9-1E33EA7D067B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-160200" y="620640"/>
            <a:ext cx="80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omiso Adm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787320" y="2459160"/>
            <a:ext cx="745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564240" y="658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36360" y="2060640"/>
            <a:ext cx="3865680" cy="2590560"/>
          </a:xfrm>
          <a:prstGeom prst="rect">
            <a:avLst/>
          </a:prstGeom>
          <a:ln w="0">
            <a:noFill/>
          </a:ln>
        </p:spPr>
      </p:pic>
      <p:sp>
        <p:nvSpPr>
          <p:cNvPr id="350" name="8 CuadroTexto"/>
          <p:cNvSpPr/>
          <p:nvPr/>
        </p:nvSpPr>
        <p:spPr>
          <a:xfrm>
            <a:off x="3975120" y="1862280"/>
            <a:ext cx="51339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468360" y="152568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3 Marcador de contenido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8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4 Rectángulo"/>
          <p:cNvSpPr/>
          <p:nvPr/>
        </p:nvSpPr>
        <p:spPr>
          <a:xfrm>
            <a:off x="1763640" y="227160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05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349360"/>
            <a:ext cx="16668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875640" y="2212920"/>
            <a:ext cx="1608120" cy="280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116240" y="148428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CuadroTexto"/>
          <p:cNvSpPr/>
          <p:nvPr/>
        </p:nvSpPr>
        <p:spPr>
          <a:xfrm>
            <a:off x="1979640" y="3162240"/>
            <a:ext cx="5761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4 CuadroTexto"/>
          <p:cNvSpPr/>
          <p:nvPr/>
        </p:nvSpPr>
        <p:spPr>
          <a:xfrm>
            <a:off x="3968640" y="4788000"/>
            <a:ext cx="504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1042920" y="4299120"/>
            <a:ext cx="2941560" cy="1866600"/>
          </a:xfrm>
          <a:prstGeom prst="rect">
            <a:avLst/>
          </a:prstGeom>
          <a:ln w="0">
            <a:noFill/>
          </a:ln>
        </p:spPr>
      </p:pic>
      <p:sp>
        <p:nvSpPr>
          <p:cNvPr id="278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3"/>
          <a:stretch/>
        </p:blipFill>
        <p:spPr>
          <a:xfrm>
            <a:off x="1030320" y="1386000"/>
            <a:ext cx="291780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A2B-A682-47A2-A4C8-C3065997D5C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4" name="10 CuadroTexto"/>
          <p:cNvSpPr/>
          <p:nvPr/>
        </p:nvSpPr>
        <p:spPr>
          <a:xfrm>
            <a:off x="3902040" y="1628640"/>
            <a:ext cx="5133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Qué CPP va a hacer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539640" y="1996920"/>
            <a:ext cx="79898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Precomercial (CPP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6 Marcador de contenido" descr=""/>
          <p:cNvPicPr/>
          <p:nvPr/>
        </p:nvPicPr>
        <p:blipFill>
          <a:blip r:embed="rId1"/>
          <a:stretch/>
        </p:blipFill>
        <p:spPr>
          <a:xfrm>
            <a:off x="401760" y="1573200"/>
            <a:ext cx="83404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100 M€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9 Flecha derecha"/>
          <p:cNvSpPr/>
          <p:nvPr/>
        </p:nvSpPr>
        <p:spPr>
          <a:xfrm>
            <a:off x="611280" y="1197000"/>
            <a:ext cx="7921440" cy="367200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Esque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4 Grupo"/>
          <p:cNvGrpSpPr/>
          <p:nvPr/>
        </p:nvGrpSpPr>
        <p:grpSpPr>
          <a:xfrm>
            <a:off x="755640" y="2376360"/>
            <a:ext cx="2027160" cy="1339920"/>
            <a:chOff x="755640" y="2376360"/>
            <a:chExt cx="2027160" cy="1339920"/>
          </a:xfrm>
        </p:grpSpPr>
        <p:grpSp>
          <p:nvGrpSpPr>
            <p:cNvPr id="295" name="2 Rectángulo redondeado"/>
            <p:cNvGrpSpPr/>
            <p:nvPr/>
          </p:nvGrpSpPr>
          <p:grpSpPr>
            <a:xfrm>
              <a:off x="755640" y="2376360"/>
              <a:ext cx="2027160" cy="1339920"/>
              <a:chOff x="755640" y="2376360"/>
              <a:chExt cx="2027160" cy="1339920"/>
            </a:xfrm>
          </p:grpSpPr>
          <p:pic>
            <p:nvPicPr>
              <p:cNvPr id="296" name="2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376360"/>
                <a:ext cx="2027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48520" y="2467440"/>
                <a:ext cx="184428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8" name="1 CuadroTexto"/>
            <p:cNvSpPr/>
            <p:nvPr/>
          </p:nvSpPr>
          <p:spPr>
            <a:xfrm>
              <a:off x="802080" y="2552400"/>
              <a:ext cx="1954080" cy="10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lamada de expresiones de interés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Soluciones innovadores orientadas a demanda públic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14 Grupo"/>
          <p:cNvGrpSpPr/>
          <p:nvPr/>
        </p:nvGrpSpPr>
        <p:grpSpPr>
          <a:xfrm>
            <a:off x="2738520" y="2360520"/>
            <a:ext cx="1265040" cy="1339920"/>
            <a:chOff x="2738520" y="2360520"/>
            <a:chExt cx="1265040" cy="1339920"/>
          </a:xfrm>
        </p:grpSpPr>
        <p:grpSp>
          <p:nvGrpSpPr>
            <p:cNvPr id="300" name="5 Rectángulo redondeado"/>
            <p:cNvGrpSpPr/>
            <p:nvPr/>
          </p:nvGrpSpPr>
          <p:grpSpPr>
            <a:xfrm>
              <a:off x="2846880" y="2360520"/>
              <a:ext cx="1072800" cy="1339920"/>
              <a:chOff x="2846880" y="2360520"/>
              <a:chExt cx="1072800" cy="1339920"/>
            </a:xfrm>
          </p:grpSpPr>
          <p:pic>
            <p:nvPicPr>
              <p:cNvPr id="301" name="5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6880" y="2360520"/>
                <a:ext cx="10728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924640" y="2432520"/>
                <a:ext cx="91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6 CuadroTexto"/>
            <p:cNvSpPr/>
            <p:nvPr/>
          </p:nvSpPr>
          <p:spPr>
            <a:xfrm>
              <a:off x="2738520" y="269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Repositorio priorizad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15 Grupo"/>
          <p:cNvGrpSpPr/>
          <p:nvPr/>
        </p:nvGrpSpPr>
        <p:grpSpPr>
          <a:xfrm>
            <a:off x="4103640" y="2357280"/>
            <a:ext cx="1044720" cy="1339920"/>
            <a:chOff x="4103640" y="2357280"/>
            <a:chExt cx="1044720" cy="1339920"/>
          </a:xfrm>
        </p:grpSpPr>
        <p:grpSp>
          <p:nvGrpSpPr>
            <p:cNvPr id="305" name="7 Rectángulo redondeado"/>
            <p:cNvGrpSpPr/>
            <p:nvPr/>
          </p:nvGrpSpPr>
          <p:grpSpPr>
            <a:xfrm>
              <a:off x="4103640" y="2357280"/>
              <a:ext cx="1044720" cy="1339920"/>
              <a:chOff x="4103640" y="2357280"/>
              <a:chExt cx="1044720" cy="1339920"/>
            </a:xfrm>
          </p:grpSpPr>
          <p:pic>
            <p:nvPicPr>
              <p:cNvPr id="306" name="7 Rectángulo redondeado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3640" y="2357280"/>
                <a:ext cx="104472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179240" y="2432160"/>
                <a:ext cx="894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8" name="8 CuadroTexto"/>
            <p:cNvSpPr/>
            <p:nvPr/>
          </p:nvSpPr>
          <p:spPr>
            <a:xfrm>
              <a:off x="4104360" y="2604240"/>
              <a:ext cx="102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16 Grupo"/>
          <p:cNvGrpSpPr/>
          <p:nvPr/>
        </p:nvGrpSpPr>
        <p:grpSpPr>
          <a:xfrm>
            <a:off x="5208480" y="2351160"/>
            <a:ext cx="1265400" cy="1339920"/>
            <a:chOff x="5208480" y="2351160"/>
            <a:chExt cx="1265400" cy="1339920"/>
          </a:xfrm>
        </p:grpSpPr>
        <p:grpSp>
          <p:nvGrpSpPr>
            <p:cNvPr id="310" name="9 Rectángulo redondeado"/>
            <p:cNvGrpSpPr/>
            <p:nvPr/>
          </p:nvGrpSpPr>
          <p:grpSpPr>
            <a:xfrm>
              <a:off x="5315400" y="2351160"/>
              <a:ext cx="1073160" cy="1339920"/>
              <a:chOff x="5315400" y="2351160"/>
              <a:chExt cx="1073160" cy="1339920"/>
            </a:xfrm>
          </p:grpSpPr>
          <p:pic>
            <p:nvPicPr>
              <p:cNvPr id="311" name="9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5315400" y="2351160"/>
                <a:ext cx="107316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394600" y="2426040"/>
                <a:ext cx="915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10 CuadroTexto"/>
            <p:cNvSpPr/>
            <p:nvPr/>
          </p:nvSpPr>
          <p:spPr>
            <a:xfrm>
              <a:off x="5208480" y="2811600"/>
              <a:ext cx="126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17 Grupo"/>
          <p:cNvGrpSpPr/>
          <p:nvPr/>
        </p:nvGrpSpPr>
        <p:grpSpPr>
          <a:xfrm>
            <a:off x="6404040" y="2349360"/>
            <a:ext cx="1263600" cy="1339920"/>
            <a:chOff x="6404040" y="2349360"/>
            <a:chExt cx="1263600" cy="1339920"/>
          </a:xfrm>
        </p:grpSpPr>
        <p:grpSp>
          <p:nvGrpSpPr>
            <p:cNvPr id="315" name="12 Rectángulo redondeado"/>
            <p:cNvGrpSpPr/>
            <p:nvPr/>
          </p:nvGrpSpPr>
          <p:grpSpPr>
            <a:xfrm>
              <a:off x="6449400" y="2349360"/>
              <a:ext cx="1182600" cy="1339920"/>
              <a:chOff x="6449400" y="2349360"/>
              <a:chExt cx="1182600" cy="1339920"/>
            </a:xfrm>
          </p:grpSpPr>
          <p:pic>
            <p:nvPicPr>
              <p:cNvPr id="316" name="12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9400" y="2349360"/>
                <a:ext cx="1182600" cy="13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6529680" y="2427840"/>
                <a:ext cx="1017000" cy="11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13 CuadroTexto"/>
            <p:cNvSpPr/>
            <p:nvPr/>
          </p:nvSpPr>
          <p:spPr>
            <a:xfrm>
              <a:off x="6404040" y="2724840"/>
              <a:ext cx="1263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 </a:t>
              </a:r>
              <a:r>
                <a:rPr b="0" lang="es-ES" sz="1200" spc="-1" strike="noStrike">
                  <a:solidFill>
                    <a:srgbClr val="000000"/>
                  </a:solidFill>
                  <a:latin typeface="Calibri"/>
                </a:rPr>
                <a:t>Certificación por fases</a:t>
              </a:r>
              <a:r>
                <a:rPr b="1" lang="es-E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21 Conector recto"/>
          <p:cNvSpPr/>
          <p:nvPr/>
        </p:nvSpPr>
        <p:spPr>
          <a:xfrm>
            <a:off x="3941640" y="1700280"/>
            <a:ext cx="0" cy="316872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24 Rectángulo redondeado"/>
          <p:cNvGrpSpPr/>
          <p:nvPr/>
        </p:nvGrpSpPr>
        <p:grpSpPr>
          <a:xfrm>
            <a:off x="3943440" y="4005360"/>
            <a:ext cx="1414440" cy="1395360"/>
            <a:chOff x="3943440" y="4005360"/>
            <a:chExt cx="1414440" cy="1395360"/>
          </a:xfrm>
        </p:grpSpPr>
        <p:pic>
          <p:nvPicPr>
            <p:cNvPr id="321" name="24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3943440" y="4005360"/>
              <a:ext cx="14144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038480" y="4100400"/>
              <a:ext cx="1224000" cy="12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25 CuadroTexto"/>
          <p:cNvSpPr/>
          <p:nvPr/>
        </p:nvSpPr>
        <p:spPr>
          <a:xfrm>
            <a:off x="4030560" y="430992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onvenio CDTI -Adm. Públ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26 Conector recto"/>
          <p:cNvSpPr/>
          <p:nvPr/>
        </p:nvSpPr>
        <p:spPr>
          <a:xfrm>
            <a:off x="5346720" y="1706400"/>
            <a:ext cx="0" cy="31672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Ana Isabel Rodriguez Belda</cp:lastModifiedBy>
  <cp:lastPrinted>2020-01-15T15:17:31Z</cp:lastPrinted>
  <dcterms:modified xsi:type="dcterms:W3CDTF">2020-01-19T16:53:05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