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CCF4-2952-4157-9EAC-1AE3E457A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2D18-2F0D-4941-9972-C8E9F9657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E305-B155-4334-B868-7357F47C8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9E72-890A-4745-B8FD-FCBDDD90C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81EC-C76E-4DDD-9631-A66B72830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082F-B620-4589-92F3-4DCFA1CF46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5C4-1E39-48FA-988F-B5AC9BE2A0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5E4-8578-48CA-86CB-002B67F826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F4D-B746-4856-9B28-9670A7543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D38A-560F-407A-9E5C-95F7DAFF98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9F0-DC2C-43B4-B893-213853E68A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D15-9CCB-4012-AB41-9E51DF42AA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664-B81F-4CE9-9996-95280D56A9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76C-4E83-45F1-9545-38C04E804D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8FC-4FA8-40C2-8E8B-5817968B7B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D72-42D6-4453-A4F9-40E12697F7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C91-D815-408A-8EF6-24B061B120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EEE-82BA-492B-A4AE-92A734E1F6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5A6-E7EC-4FA2-9E7F-C39D3E345B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92E27-9C60-49C9-B489-3FF4D2156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0CC2-D3FF-495E-A8D3-65FB4EE39E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015CF-C4ED-4AF6-A4A5-3C1BBA1ADC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7457C-5EFF-40A0-BF68-B44700BA2E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065AA-2BD7-4603-A18A-AD49D69814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A37E6-2619-411A-A3FF-84317EEBB5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FCD27-D438-4641-827B-BCA39D8046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BC173-8925-4F74-B2DE-549119F251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85901-6842-491A-8CCE-46BA234B87D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97315-0C64-489E-8AC2-75FEB1A197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499FA-97CF-4CC3-8FBC-741BAAE9CD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39C2F-FFC9-4E8E-A34E-1EF17FF8A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F823-D2D8-4981-B0D3-5653921B91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9DD80-0C64-4F62-90C3-C5A1FDA903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E4BD-ADE6-48F1-A06F-51DF6A7FE7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FC76-0CC7-4972-9A54-A5D3892EB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CD24-651F-4976-8F6A-B74CCB878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D7EC-5943-4DDE-A4CE-5429C7D4A712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CAF-A870-4B92-A60C-5D001476C3B2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4AA3-5E29-46F6-A9A7-B4FE56F289F7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DAAC-12C8-4006-B721-39F28946FD9B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1640" y="1773000"/>
            <a:ext cx="410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30 En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500720" y="2637000"/>
            <a:ext cx="4464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RE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 GESTIÓN DE ENSAYOS / ESTUDIOS CL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Requis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18" name="6 CuadroTexto"/>
          <p:cNvSpPr/>
          <p:nvPr/>
        </p:nvSpPr>
        <p:spPr>
          <a:xfrm>
            <a:off x="3544920" y="1096920"/>
            <a:ext cx="5491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7 Diagrama" descr=""/>
          <p:cNvPicPr/>
          <p:nvPr/>
        </p:nvPicPr>
        <p:blipFill>
          <a:blip r:embed="rId2"/>
          <a:stretch/>
        </p:blipFill>
        <p:spPr>
          <a:xfrm>
            <a:off x="5479920" y="4498920"/>
            <a:ext cx="3353040" cy="1616040"/>
          </a:xfrm>
          <a:prstGeom prst="rect">
            <a:avLst/>
          </a:prstGeom>
          <a:ln w="0">
            <a:noFill/>
          </a:ln>
        </p:spPr>
      </p:pic>
      <p:sp>
        <p:nvSpPr>
          <p:cNvPr id="320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324000" y="131760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4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B388-6D50-4418-983D-D626ECD878ED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395280" y="53496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A7C-A179-4E1A-9919-0A66C4DBF359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35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C2C8-08E0-4B30-8F8E-CF2B524F7345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324000" y="189000"/>
            <a:ext cx="626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 de inter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1 CuadroTexto"/>
          <p:cNvSpPr/>
          <p:nvPr/>
        </p:nvSpPr>
        <p:spPr>
          <a:xfrm>
            <a:off x="6713640" y="1936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8C82-D3A0-471F-8E41-D4AC1CF80E72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1 Título"/>
          <p:cNvSpPr/>
          <p:nvPr/>
        </p:nvSpPr>
        <p:spPr>
          <a:xfrm>
            <a:off x="324000" y="47520"/>
            <a:ext cx="55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9 CuadroTexto"/>
          <p:cNvSpPr/>
          <p:nvPr/>
        </p:nvSpPr>
        <p:spPr>
          <a:xfrm>
            <a:off x="127080" y="136512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.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899320" y="728640"/>
            <a:ext cx="1985760" cy="1046160"/>
          </a:xfrm>
          <a:prstGeom prst="rect">
            <a:avLst/>
          </a:prstGeom>
          <a:ln w="0">
            <a:noFill/>
          </a:ln>
        </p:spPr>
      </p:pic>
      <p:sp>
        <p:nvSpPr>
          <p:cNvPr id="345" name="1 Cerrar llave"/>
          <p:cNvSpPr/>
          <p:nvPr/>
        </p:nvSpPr>
        <p:spPr>
          <a:xfrm>
            <a:off x="4156200" y="1379520"/>
            <a:ext cx="328320" cy="1368360"/>
          </a:xfrm>
          <a:custGeom>
            <a:avLst/>
            <a:gdLst>
              <a:gd name="textAreaLeft" fmla="*/ 0 w 328320"/>
              <a:gd name="textAreaRight" fmla="*/ 118440 w 32832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8 Cerrar llave"/>
          <p:cNvSpPr/>
          <p:nvPr/>
        </p:nvSpPr>
        <p:spPr>
          <a:xfrm>
            <a:off x="4673520" y="4797360"/>
            <a:ext cx="363600" cy="79848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798480"/>
              <a:gd name="textAreaBottom" fmla="*/ 78912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0"/>
                  <a:pt x="10800" y="819"/>
                </a:cubicBezTo>
                <a:lnTo>
                  <a:pt x="10800" y="9981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10"/>
                  <a:pt x="10800" y="11619"/>
                </a:cubicBezTo>
                <a:lnTo>
                  <a:pt x="10800" y="20781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0 CuadroTexto"/>
          <p:cNvSpPr/>
          <p:nvPr/>
        </p:nvSpPr>
        <p:spPr>
          <a:xfrm>
            <a:off x="5148360" y="188748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13 CuadroTexto"/>
          <p:cNvSpPr/>
          <p:nvPr/>
        </p:nvSpPr>
        <p:spPr>
          <a:xfrm>
            <a:off x="5148360" y="289260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14 CuadroTexto"/>
          <p:cNvSpPr/>
          <p:nvPr/>
        </p:nvSpPr>
        <p:spPr>
          <a:xfrm>
            <a:off x="5148360" y="37893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15 CuadroTexto"/>
          <p:cNvSpPr/>
          <p:nvPr/>
        </p:nvSpPr>
        <p:spPr>
          <a:xfrm>
            <a:off x="5148360" y="4292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16 CuadroTexto"/>
          <p:cNvSpPr/>
          <p:nvPr/>
        </p:nvSpPr>
        <p:spPr>
          <a:xfrm>
            <a:off x="5148360" y="5003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17 Imagen" descr="Imagen relacionada"/>
          <p:cNvPicPr/>
          <p:nvPr/>
        </p:nvPicPr>
        <p:blipFill>
          <a:blip r:embed="rId2"/>
          <a:stretch/>
        </p:blipFill>
        <p:spPr>
          <a:xfrm>
            <a:off x="3938760" y="141300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54" name="18 Imagen" descr="Imagen relacionada"/>
          <p:cNvPicPr/>
          <p:nvPr/>
        </p:nvPicPr>
        <p:blipFill>
          <a:blip r:embed="rId3"/>
          <a:stretch/>
        </p:blipFill>
        <p:spPr>
          <a:xfrm>
            <a:off x="3508200" y="1881360"/>
            <a:ext cx="231840" cy="223560"/>
          </a:xfrm>
          <a:prstGeom prst="rect">
            <a:avLst/>
          </a:prstGeom>
          <a:ln w="0">
            <a:noFill/>
          </a:ln>
        </p:spPr>
      </p:pic>
      <p:pic>
        <p:nvPicPr>
          <p:cNvPr id="355" name="19 Imagen" descr="Imagen relacionada"/>
          <p:cNvPicPr/>
          <p:nvPr/>
        </p:nvPicPr>
        <p:blipFill>
          <a:blip r:embed="rId4"/>
          <a:stretch/>
        </p:blipFill>
        <p:spPr>
          <a:xfrm>
            <a:off x="4448160" y="30495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6" name="20 Imagen" descr="Imagen relacionada"/>
          <p:cNvPicPr/>
          <p:nvPr/>
        </p:nvPicPr>
        <p:blipFill>
          <a:blip r:embed="rId5"/>
          <a:stretch/>
        </p:blipFill>
        <p:spPr>
          <a:xfrm>
            <a:off x="3780000" y="2338560"/>
            <a:ext cx="231480" cy="223560"/>
          </a:xfrm>
          <a:prstGeom prst="rect">
            <a:avLst/>
          </a:prstGeom>
          <a:ln w="0">
            <a:noFill/>
          </a:ln>
        </p:spPr>
      </p:pic>
      <p:pic>
        <p:nvPicPr>
          <p:cNvPr id="357" name="19 Imagen" descr="Imagen relacionada"/>
          <p:cNvPicPr/>
          <p:nvPr/>
        </p:nvPicPr>
        <p:blipFill>
          <a:blip r:embed="rId6"/>
          <a:stretch/>
        </p:blipFill>
        <p:spPr>
          <a:xfrm>
            <a:off x="4484520" y="3852720"/>
            <a:ext cx="230400" cy="223920"/>
          </a:xfrm>
          <a:prstGeom prst="rect">
            <a:avLst/>
          </a:prstGeom>
          <a:ln w="0">
            <a:noFill/>
          </a:ln>
        </p:spPr>
      </p:pic>
      <p:sp>
        <p:nvSpPr>
          <p:cNvPr id="358" name="18 CuadroTexto"/>
          <p:cNvSpPr/>
          <p:nvPr/>
        </p:nvSpPr>
        <p:spPr>
          <a:xfrm>
            <a:off x="5148360" y="562752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19 Imagen" descr="Imagen relacionada"/>
          <p:cNvPicPr/>
          <p:nvPr/>
        </p:nvPicPr>
        <p:blipFill>
          <a:blip r:embed="rId7"/>
          <a:stretch/>
        </p:blipFill>
        <p:spPr>
          <a:xfrm>
            <a:off x="4557600" y="4815000"/>
            <a:ext cx="230400" cy="22356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8"/>
          <a:stretch/>
        </p:blipFill>
        <p:spPr>
          <a:xfrm>
            <a:off x="4254480" y="526104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19 Imagen" descr="Imagen relacionada"/>
          <p:cNvPicPr/>
          <p:nvPr/>
        </p:nvPicPr>
        <p:blipFill>
          <a:blip r:embed="rId9"/>
          <a:stretch/>
        </p:blipFill>
        <p:spPr>
          <a:xfrm>
            <a:off x="4656240" y="4356000"/>
            <a:ext cx="23004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C30F-69B7-40CB-B1E7-8F6FF8DB3D32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15 CuadroTexto"/>
          <p:cNvSpPr/>
          <p:nvPr/>
        </p:nvSpPr>
        <p:spPr>
          <a:xfrm>
            <a:off x="2700360" y="471168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Fo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0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75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76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8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1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86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87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9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1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2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4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396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397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2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AE25-6CCE-4D74-A1F8-C0ADD61C4F1F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4784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29T11:30:35Z</cp:lastPrinted>
  <dcterms:modified xsi:type="dcterms:W3CDTF">2020-02-04T00:02:56Z</dcterms:modified>
  <cp:revision>6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