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85D9-27F1-4F79-B4CC-E7482C6E6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9DAB-231C-4F6E-A999-A757A24AC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9C6B-5CE1-4373-BEC3-109544EC7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8F63-E691-42CA-BF43-B1DFFFFBC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B9E1-AF86-42AC-8B49-4514CAF71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CAD7-7211-47D6-A8E6-3286E916E5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F1E-E3AB-4FFF-9689-4D75296301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B2A-8B4C-4342-A836-14DCB3C5B8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B32-5488-426C-9033-F101DB906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ECDD-FAA6-484F-9C21-10DB685F0B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C95-739A-4B2E-B7BD-B2717CDCF3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75A-C30D-4DB2-B9F7-E3278ADBA0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616-9B68-4701-BC63-88E3ED30A0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41C-93A1-403A-BD2C-56BB778FE9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C6A-110E-4E19-A8CE-8C31E3DB8C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948-B875-42A1-9BB9-10DCD61E59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CE4-47BB-4CE4-98F3-0C9E620BA8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C7A-5D1D-4A2F-95CA-46BE9F31B5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D33-CCAA-4440-A304-B32A88F296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D52A9-2BE6-46DA-BD45-E14194B73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8134-9C57-43C2-B94C-F20C17EE63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8ADB-55D3-4121-9433-7E7A6ACC83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EBA8-F44A-41BD-99F3-111B1E71BA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F76C4-5753-464A-8B95-85D8730897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E8CB0-FA3E-46D0-9E28-BF8BDE82F9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35FD7-2B92-4BF6-8AF4-5E911BDCB5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E6AD-EFBA-4D20-828D-183A654721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B0B79-C221-4473-8F82-A6CB2D0702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3A3D-474D-47D3-85D1-09DAAD0C02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2B293-68FF-460B-8A4F-CDE19034B5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99EA3-F9A8-40B1-9391-30DABF8EC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9775-4D16-4B63-BDDA-25B2DD0C4D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5F707-C58F-4E03-B2E6-DC15DB78D9E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D716-869A-4E9E-A2DD-774809BFAF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71AF-9A5E-488E-B56A-99BE97B0F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0BE0-E418-42D0-A629-BEDEA85E2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BD0-AA2B-46CB-9CED-6BC95CB3010E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EE3-7FCF-4521-B50C-0C0900C05972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6E5-3883-4702-A320-0AA43F04BF94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F18-567A-4EB5-9BF9-30F864400DD4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87640" y="1989000"/>
            <a:ext cx="4103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7 febr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235400" y="2852640"/>
            <a:ext cx="4908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TÉCNICA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NOVA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E51-5446-44D6-BD55-7842D88CB2DE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 Título"/>
          <p:cNvSpPr/>
          <p:nvPr/>
        </p:nvSpPr>
        <p:spPr>
          <a:xfrm>
            <a:off x="873000" y="404640"/>
            <a:ext cx="7444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. Esquema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6 Diagrama" descr=""/>
          <p:cNvPicPr/>
          <p:nvPr/>
        </p:nvPicPr>
        <p:blipFill>
          <a:blip r:embed="rId1"/>
          <a:stretch/>
        </p:blipFill>
        <p:spPr>
          <a:xfrm>
            <a:off x="-55440" y="1639800"/>
            <a:ext cx="99122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br>
              <a:rPr sz="44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 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21" name="6 CuadroTexto"/>
          <p:cNvSpPr/>
          <p:nvPr/>
        </p:nvSpPr>
        <p:spPr>
          <a:xfrm>
            <a:off x="3544920" y="1546200"/>
            <a:ext cx="5491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. Públic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7 Diagrama" descr=""/>
          <p:cNvPicPr/>
          <p:nvPr/>
        </p:nvPicPr>
        <p:blipFill>
          <a:blip r:embed="rId2"/>
          <a:stretch/>
        </p:blipFill>
        <p:spPr>
          <a:xfrm>
            <a:off x="5479920" y="456552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Priorizació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24000" y="167796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EFA-CD2B-49FD-A483-059DC8C9D6EC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24000" y="189000"/>
            <a:ext cx="82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Res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D26-2AD1-43CC-95D3-1C9E053AAA9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4000" y="189000"/>
            <a:ext cx="820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SERGAS como usuario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81040" y="1406520"/>
            <a:ext cx="829944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stema de identifi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ol de aguas de b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timización de recursos en onc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stión integral de comités méd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s con tumores diges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lud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betes gest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401-5E55-405D-831C-393235D171B7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95280" y="534960"/>
            <a:ext cx="518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mpromiso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B74-7E87-413B-82AD-8272AFF47C8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44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7CD-AB86-4FDF-AAE8-9C16CF67C0F7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 Título"/>
          <p:cNvSpPr/>
          <p:nvPr/>
        </p:nvSpPr>
        <p:spPr>
          <a:xfrm>
            <a:off x="324000" y="52560"/>
            <a:ext cx="55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303120" y="125568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467320" y="684360"/>
            <a:ext cx="2200320" cy="1160280"/>
          </a:xfrm>
          <a:prstGeom prst="rect">
            <a:avLst/>
          </a:prstGeom>
          <a:ln w="0">
            <a:noFill/>
          </a:ln>
        </p:spPr>
      </p:pic>
      <p:sp>
        <p:nvSpPr>
          <p:cNvPr id="350" name="1 Cerrar llave"/>
          <p:cNvSpPr/>
          <p:nvPr/>
        </p:nvSpPr>
        <p:spPr>
          <a:xfrm>
            <a:off x="4240080" y="1225440"/>
            <a:ext cx="328680" cy="1368360"/>
          </a:xfrm>
          <a:custGeom>
            <a:avLst/>
            <a:gdLst>
              <a:gd name="textAreaLeft" fmla="*/ 0 w 328680"/>
              <a:gd name="textAreaRight" fmla="*/ 118800 w 32868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8 Cerrar llave"/>
          <p:cNvSpPr/>
          <p:nvPr/>
        </p:nvSpPr>
        <p:spPr>
          <a:xfrm>
            <a:off x="4673520" y="4557600"/>
            <a:ext cx="363600" cy="85572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855720"/>
              <a:gd name="textAreaBottom" fmla="*/ 8463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0 CuadroTexto"/>
          <p:cNvSpPr/>
          <p:nvPr/>
        </p:nvSpPr>
        <p:spPr>
          <a:xfrm>
            <a:off x="5119560" y="184932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3 CuadroTexto"/>
          <p:cNvSpPr/>
          <p:nvPr/>
        </p:nvSpPr>
        <p:spPr>
          <a:xfrm>
            <a:off x="5119560" y="277164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4 CuadroTexto"/>
          <p:cNvSpPr/>
          <p:nvPr/>
        </p:nvSpPr>
        <p:spPr>
          <a:xfrm>
            <a:off x="5119560" y="36957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5 CuadroTexto"/>
          <p:cNvSpPr/>
          <p:nvPr/>
        </p:nvSpPr>
        <p:spPr>
          <a:xfrm>
            <a:off x="5119560" y="41720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16 CuadroTexto"/>
          <p:cNvSpPr/>
          <p:nvPr/>
        </p:nvSpPr>
        <p:spPr>
          <a:xfrm>
            <a:off x="5119560" y="480060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7 Imagen" descr="Imagen relacionada"/>
          <p:cNvPicPr/>
          <p:nvPr/>
        </p:nvPicPr>
        <p:blipFill>
          <a:blip r:embed="rId2"/>
          <a:stretch/>
        </p:blipFill>
        <p:spPr>
          <a:xfrm>
            <a:off x="4075200" y="127800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9" name="18 Imagen" descr="Imagen relacionada"/>
          <p:cNvPicPr/>
          <p:nvPr/>
        </p:nvPicPr>
        <p:blipFill>
          <a:blip r:embed="rId3"/>
          <a:stretch/>
        </p:blipFill>
        <p:spPr>
          <a:xfrm>
            <a:off x="3645000" y="1731960"/>
            <a:ext cx="231840" cy="22392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4"/>
          <a:stretch/>
        </p:blipFill>
        <p:spPr>
          <a:xfrm>
            <a:off x="4586400" y="29559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20 Imagen" descr="Imagen relacionada"/>
          <p:cNvPicPr/>
          <p:nvPr/>
        </p:nvPicPr>
        <p:blipFill>
          <a:blip r:embed="rId5"/>
          <a:stretch/>
        </p:blipFill>
        <p:spPr>
          <a:xfrm>
            <a:off x="3876840" y="2206800"/>
            <a:ext cx="231480" cy="223560"/>
          </a:xfrm>
          <a:prstGeom prst="rect">
            <a:avLst/>
          </a:prstGeom>
          <a:ln w="0">
            <a:noFill/>
          </a:ln>
        </p:spPr>
      </p:pic>
      <p:sp>
        <p:nvSpPr>
          <p:cNvPr id="362" name="17 CuadroTexto"/>
          <p:cNvSpPr/>
          <p:nvPr/>
        </p:nvSpPr>
        <p:spPr>
          <a:xfrm>
            <a:off x="5119560" y="54752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19 Imagen" descr="Imagen relacionada"/>
          <p:cNvPicPr/>
          <p:nvPr/>
        </p:nvPicPr>
        <p:blipFill>
          <a:blip r:embed="rId6"/>
          <a:stretch/>
        </p:blipFill>
        <p:spPr>
          <a:xfrm>
            <a:off x="3959280" y="3687840"/>
            <a:ext cx="230040" cy="225360"/>
          </a:xfrm>
          <a:prstGeom prst="rect">
            <a:avLst/>
          </a:prstGeom>
          <a:ln w="0">
            <a:noFill/>
          </a:ln>
        </p:spPr>
      </p:pic>
      <p:pic>
        <p:nvPicPr>
          <p:cNvPr id="364" name="19 Imagen" descr="Imagen relacionada"/>
          <p:cNvPicPr/>
          <p:nvPr/>
        </p:nvPicPr>
        <p:blipFill>
          <a:blip r:embed="rId7"/>
          <a:stretch/>
        </p:blipFill>
        <p:spPr>
          <a:xfrm>
            <a:off x="4192560" y="420372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5" name="19 Imagen" descr="Imagen relacionada"/>
          <p:cNvPicPr/>
          <p:nvPr/>
        </p:nvPicPr>
        <p:blipFill>
          <a:blip r:embed="rId8"/>
          <a:stretch/>
        </p:blipFill>
        <p:spPr>
          <a:xfrm>
            <a:off x="4643280" y="4637160"/>
            <a:ext cx="230400" cy="223920"/>
          </a:xfrm>
          <a:prstGeom prst="rect">
            <a:avLst/>
          </a:prstGeom>
          <a:ln w="0">
            <a:noFill/>
          </a:ln>
        </p:spPr>
      </p:pic>
      <p:pic>
        <p:nvPicPr>
          <p:cNvPr id="366" name="19 Imagen" descr="Imagen relacionada"/>
          <p:cNvPicPr/>
          <p:nvPr/>
        </p:nvPicPr>
        <p:blipFill>
          <a:blip r:embed="rId9"/>
          <a:stretch/>
        </p:blipFill>
        <p:spPr>
          <a:xfrm>
            <a:off x="4338720" y="515952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67" name="19 Imagen" descr="Imagen relacionada"/>
          <p:cNvPicPr/>
          <p:nvPr/>
        </p:nvPicPr>
        <p:blipFill>
          <a:blip r:embed="rId10"/>
          <a:stretch/>
        </p:blipFill>
        <p:spPr>
          <a:xfrm>
            <a:off x="3917880" y="5548320"/>
            <a:ext cx="2304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59A-39F7-4C9A-B0AD-A48F4009145E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15 CuadroTexto"/>
          <p:cNvSpPr/>
          <p:nvPr/>
        </p:nvSpPr>
        <p:spPr>
          <a:xfrm>
            <a:off x="2700360" y="471168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Transportes, movilidad y agenda urb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6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7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81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82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4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7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92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93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7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8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402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403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8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0FF-3864-4590-B23A-7F3A4FAAA475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1292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Sergio Capitan Herraiz</cp:lastModifiedBy>
  <cp:lastPrinted>2020-02-05T08:47:53Z</cp:lastPrinted>
  <dcterms:modified xsi:type="dcterms:W3CDTF">2020-02-05T11:17:29Z</dcterms:modified>
  <cp:revision>7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