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37A-118F-4D49-AF1A-75C16633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198-1771-49E4-AA54-58F6BD81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968640" y="8827920"/>
            <a:ext cx="3040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026D46-16BD-4505-A755-61D9B75C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2E4-3898-4A31-BBAF-FDB7A32D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03C-F444-4E28-B9D6-8DCD087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3CA-C239-48E9-9706-52CD635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FCA-48EF-4C6B-9DDE-62C72FE7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96F-62EF-4DF0-A160-A4F84DA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9DB-4D4B-4A70-B520-3A0358A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F2E-CFD9-4271-8FEE-FEC90438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B86-414C-41B8-A878-41156E4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C61-785B-40FF-BB01-0A11057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93C-C1F0-4D3A-8B4E-EA5DDDC3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34A-85BD-4544-85ED-6B6B0BD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63F-93A6-4D6C-809F-ECE832E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81F-8CF8-456E-AEFD-DC8C95837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ibin.gov.i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3656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partment of Biotechnology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inistry of Science &amp; Technology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Govt. of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124080" y="32767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anoj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Scientist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emblem1"/>
          <p:cNvPicPr/>
          <p:nvPr/>
        </p:nvPicPr>
        <p:blipFill>
          <a:blip r:embed="rId2"/>
          <a:stretch/>
        </p:blipFill>
        <p:spPr>
          <a:xfrm>
            <a:off x="3809880" y="533520"/>
            <a:ext cx="59076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166040" y="1751040"/>
            <a:ext cx="61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Bioresource Development and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Energy Bio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alibri"/>
              </a:rPr>
              <a:t>Bioprospecting of Plants and Other Natural Resources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28600" y="541008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gh value metabolites from pla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Report Icacinaceae"/>
          <p:cNvPicPr/>
          <p:nvPr/>
        </p:nvPicPr>
        <p:blipFill>
          <a:blip r:embed="rId1"/>
          <a:srcRect l="0" t="0" r="0" b="34614"/>
          <a:stretch/>
        </p:blipFill>
        <p:spPr>
          <a:xfrm>
            <a:off x="76320" y="1052640"/>
            <a:ext cx="3803400" cy="412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267080" y="1052640"/>
            <a:ext cx="221004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705720" y="1052640"/>
            <a:ext cx="1904760" cy="1576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4281480" y="279864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2104"/>
                </a:solidFill>
                <a:latin typeface="Arial"/>
              </a:rPr>
              <a:t>Calophyllum apetalum (~ 2% dw of lea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705720" y="27781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2104"/>
                </a:solidFill>
                <a:latin typeface="Arial"/>
              </a:rPr>
              <a:t>Gymnopserm (~ 5% dw of lea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13400" y="346860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lternate sources of Shikim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4205160" y="4129200"/>
            <a:ext cx="1828800" cy="16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6270480" y="4122720"/>
            <a:ext cx="1981440" cy="1635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4114800" y="5867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ondary compounds production in lichen species-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irinaria appla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533520" y="533520"/>
            <a:ext cx="8458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me Significant R&amp;D  highlight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buClr>
                <a:srgbClr val="8a210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Four novel compounds isolated from Lichens which showed 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            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activity for their anti-tuberculosis and anticanc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150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Promising species from </a:t>
            </a:r>
            <a:r>
              <a:rPr b="1" i="1" lang="en-US" sz="2000" spc="-1" strike="noStrike">
                <a:solidFill>
                  <a:srgbClr val="8a2104"/>
                </a:solidFill>
                <a:latin typeface="Calibri"/>
              </a:rPr>
              <a:t>Icacinaceae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family were screened for the anti-cancer alkaloid, Camptothecin and its derivatives.</a:t>
            </a:r>
            <a:r>
              <a:rPr b="1" i="1" lang="en-US" sz="2000" spc="-1" strike="noStrike">
                <a:solidFill>
                  <a:srgbClr val="8a2104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Two species were found to contain the highest ever reported content of camptothecin (1 to 1.2 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Alternate sources of shikimic acid from plants were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ntimicrobial Peptides from wasp, bees (</a:t>
            </a:r>
            <a:r>
              <a:rPr b="1" i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pis dorsata, Apis cerana </a:t>
            </a: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&amp; </a:t>
            </a:r>
            <a:r>
              <a:rPr b="1" i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pis florea</a:t>
            </a: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)  identified and characteris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2104"/>
                </a:solidFill>
                <a:latin typeface="Calibri"/>
              </a:rPr>
              <a:t>Bio-resource Inventory and Biodiversity Characterization</a:t>
            </a:r>
            <a:br>
              <a:rPr sz="4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Picture2"/>
          <p:cNvPicPr/>
          <p:nvPr/>
        </p:nvPicPr>
        <p:blipFill>
          <a:blip r:embed="rId1"/>
          <a:stretch/>
        </p:blipFill>
        <p:spPr>
          <a:xfrm>
            <a:off x="2971800" y="1295280"/>
            <a:ext cx="259092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715000" y="1066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antitative Assessment and Mapping of Biodiversity at ground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5372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5880" y="2209680"/>
            <a:ext cx="27432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Western Ghats – 100%, 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3230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600 spe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Eastern Ghats – 100%,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652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273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orth-East – 50%,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200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600 spe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&amp;NB Islands- 52%, 527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352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52280" y="9144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acterization at Landscape Level using Sate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mote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0" y="2057400"/>
            <a:ext cx="26668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ing and database prepa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-eastern Ind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 Himalaya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 Ghats regio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aman and Nicobar Is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India, Eastern Gh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can Penins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ern Pla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R Delhi, Uttar Pradesh, Bihar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-West India, Jammu &amp; Kashmir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62120" y="5826240"/>
            <a:ext cx="6384960" cy="992880"/>
          </a:xfrm>
          <a:prstGeom prst="rect">
            <a:avLst/>
          </a:prstGeom>
          <a:solidFill>
            <a:srgbClr val="ccec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Total Geographical Area - 328.0 M 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Forest cover – 6.78 M ha (100% of the country’s forest c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8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6600"/>
                </a:solidFill>
                <a:latin typeface="Calibri"/>
              </a:rPr>
              <a:t>Indian Bioresource Information Network (IBIN)</a:t>
            </a:r>
            <a:br>
              <a:rPr sz="2500"/>
            </a:br>
            <a:br>
              <a:rPr sz="800"/>
            </a:br>
            <a:r>
              <a:rPr b="1" lang="en-US" sz="1600" spc="-1" strike="noStrike">
                <a:solidFill>
                  <a:srgbClr val="0000cc"/>
                </a:solidFill>
                <a:latin typeface="Calibri"/>
              </a:rPr>
              <a:t>The IBIN portal developed as  a single window gateway to access distributed bioresource database available in the countr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152280" y="1447920"/>
            <a:ext cx="8153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ibin_launch.png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500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41" name="Rectangle 1"/>
          <p:cNvSpPr/>
          <p:nvPr/>
        </p:nvSpPr>
        <p:spPr>
          <a:xfrm>
            <a:off x="4751280" y="46944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ublic domain link: www.ibin.gov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395360"/>
            <a:ext cx="41911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Jeeva Sampad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Interactive 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39,000 speci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, animals, marine organisms and microb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4,00,000 rec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, distribution maps  u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52280" y="5132520"/>
            <a:ext cx="85456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  <a:ea typeface="Times New Roman"/>
              </a:rPr>
              <a:t>Bioresource Information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Ashoka Trust for Reasearch in Ecology and the Environment, Bangalore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North Eastern Hill University, Shillong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</a:rPr>
              <a:t>Foundation for Revitalisation of Local Health Traditions </a:t>
            </a: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Bangalore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Calcutt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Institute of Himalayan Bioresource Biotechnology, Palamap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4724280" y="3772080"/>
            <a:ext cx="44197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Coordinating Centers of the IBIN Por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University of Agricultural Sciences, Bangalore</a:t>
            </a:r>
            <a:r>
              <a:rPr b="1" lang="en-IN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Indian Institute of Remote Sensing, Dehrad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2104"/>
                </a:solidFill>
                <a:latin typeface="Calibri"/>
              </a:rPr>
              <a:t>Future Prospects with 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60520" y="1498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reas which can be considered for futur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2209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Joint call for proposal for utilization of plants, microbes and other bioresources for the development of value add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Collaboration in the area of Biofuels and Bio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Capacity Building programmes i.e. Overseas Fellowships for young researchers and Internation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tting up of a Joint Centre for  Drug Discovery and Product Development from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7600" y="152280"/>
            <a:ext cx="7698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2104"/>
                </a:solidFill>
                <a:latin typeface="Arial"/>
              </a:rPr>
              <a:t>Brief Overview o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(Energy Biosciences &amp; Bioprospecting: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Utilization of Natural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95440" y="4114800"/>
            <a:ext cx="883908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aracterization and Digitized Invent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ioprospecting and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servation and Utilization of Bio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ioresource Developme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apacity Building Programme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74760" y="14241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BT programmes on Energy Bioscienc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95440" y="1905120"/>
            <a:ext cx="83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evelopment of commercially viable technology for cellulosic  ethanol  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evelopment of next generation biofuel-Biobutanol, Bio-hydrogen, Green Diesel, Biomethyl furan, Bio-dimethyl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79960" y="369108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BT programmess on Bioprosp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35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National Programme on Energy Bio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1"/>
          <p:cNvGrpSpPr/>
          <p:nvPr/>
        </p:nvGrpSpPr>
        <p:grpSpPr>
          <a:xfrm>
            <a:off x="609480" y="457200"/>
            <a:ext cx="7696440" cy="6183720"/>
            <a:chOff x="609480" y="457200"/>
            <a:chExt cx="7696440" cy="6183720"/>
          </a:xfrm>
        </p:grpSpPr>
        <p:sp>
          <p:nvSpPr>
            <p:cNvPr id="60" name="Oval 10"/>
            <p:cNvSpPr/>
            <p:nvPr/>
          </p:nvSpPr>
          <p:spPr>
            <a:xfrm>
              <a:off x="5181480" y="36576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0"/>
            <p:cNvSpPr/>
            <p:nvPr/>
          </p:nvSpPr>
          <p:spPr>
            <a:xfrm>
              <a:off x="685800" y="18288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2971800" y="4572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0"/>
            <p:cNvSpPr/>
            <p:nvPr/>
          </p:nvSpPr>
          <p:spPr>
            <a:xfrm>
              <a:off x="5562720" y="106668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2438280" y="373392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3276720" y="20574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3505320" y="746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ethan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5943600" y="14320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Algal Biofu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5638680" y="4327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die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3657600" y="28512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Energy Bioscience Cen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609480" y="25750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apacity 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048120" y="1143000"/>
              <a:ext cx="27432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Re-engineered feed st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Re-engineered micro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Process optimization </a:t>
              </a:r>
              <a:br>
                <a:rPr sz="1200"/>
              </a:b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"/>
            <p:cNvSpPr/>
            <p:nvPr/>
          </p:nvSpPr>
          <p:spPr>
            <a:xfrm>
              <a:off x="5715000" y="1905120"/>
              <a:ext cx="259092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Collection and characteriz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stablishment of repositor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Development of produc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5562720" y="4800600"/>
              <a:ext cx="243828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Quality planting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Improved feed st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Process optimization </a:t>
              </a:r>
              <a:br>
                <a:rPr sz="1200"/>
              </a:b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2971800" y="553068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Biohydrog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Biobutan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Synthetic bi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3048120"/>
              <a:ext cx="24382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nergy Bioscience Chai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nergy Bioscience Overseas Fellowsh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2057400" y="486108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Next gener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fu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477120"/>
            <a:ext cx="2590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770-53AA-45F0-8050-CAE3DCAFFA14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2160" y="38052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fuel Gene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715000"/>
            <a:ext cx="182880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First Generation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6520" y="3657600"/>
            <a:ext cx="1752480" cy="67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econd  Generatio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1800" y="1463760"/>
            <a:ext cx="1905120" cy="689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ext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eneratio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1367280" y="4497480"/>
            <a:ext cx="926280" cy="120960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362320" y="5605560"/>
            <a:ext cx="64008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Biodiesel from Jatrop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Bioethanol from Mola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Established technology, already commer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05320" y="3608280"/>
            <a:ext cx="4952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Lignocellulosic etha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lgal Biof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600" spc="-1" strike="noStrike">
                <a:solidFill>
                  <a:srgbClr val="003300"/>
                </a:solidFill>
                <a:latin typeface="Arial"/>
              </a:rPr>
              <a:t>Many at Pilot plant or demonstration stage</a:t>
            </a:r>
            <a:r>
              <a:rPr b="1" i="1" lang="en-IN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952880" y="1351080"/>
            <a:ext cx="35053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butanol</a:t>
            </a:r>
            <a:r>
              <a:rPr b="0" lang="en-IN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-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Green Die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methyl fur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-dimeth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Cutting edge technologies – </a:t>
            </a:r>
            <a:br>
              <a:rPr sz="1600"/>
            </a:b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require R&amp;D intervention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831040" y="2370600"/>
            <a:ext cx="976680" cy="12877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DA7-56AE-414E-AE4A-C4403DDE40E3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705720" y="61722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334-A586-44F0-933F-F51AED0E07F9}" type="slidenum">
              <a:rPr b="0" lang="en-US" sz="1200" spc="-1" strike="noStrike">
                <a:solidFill>
                  <a:srgbClr val="99cc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80880" y="380880"/>
            <a:ext cx="838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DBT- ICT Centre for Energy Bio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ndia’s first National Bioenergy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3520" y="14796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Narrow"/>
              </a:rPr>
              <a:t>Multidisciplinary Centre with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state-of-the-art facility for high tech R&amp;D in </a:t>
            </a: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enzyme technology; fermentation and bioprocess technology 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microbial genomics, proteomics, metabol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EB-3.jpg"/>
          <p:cNvPicPr/>
          <p:nvPr/>
        </p:nvPicPr>
        <p:blipFill>
          <a:blip r:embed="rId1"/>
          <a:stretch/>
        </p:blipFill>
        <p:spPr>
          <a:xfrm>
            <a:off x="4648320" y="1371600"/>
            <a:ext cx="42210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33520" y="3303720"/>
            <a:ext cx="396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Narrow"/>
              </a:rPr>
              <a:t>Achievements in first year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Competitive Cellulosic Ethanol technology developed with rice/wheat straw; bagasse; and cotton s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First Pilot Plant based on ICT Technology for 10 ton biomass/day being put up by India Glycols Ltd. at Kashipur, Uttarak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BT-IOC Centre for Advanced Bio-Energy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Indian Oil Corporation, R&amp;D Centre , Faridab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53040" cy="223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5" name="Rectangle 6"/>
          <p:cNvSpPr/>
          <p:nvPr/>
        </p:nvSpPr>
        <p:spPr>
          <a:xfrm>
            <a:off x="152280" y="1972080"/>
            <a:ext cx="52578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To conduct a multi-disciplinary bioenergy research involving biology,    chemical and material scienc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To provide a platform for integrating research activities pursued in several areas related to biofuels by various instit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Development of “institutional capability” to address the bioenergy need of nation based on “science -enterprise mode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Provide National capability of pilot level scale-up of developed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410080" y="4419720"/>
            <a:ext cx="36198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ignocellulosic based bio-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ynthetic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ovel biotechnological method for CO2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ife cyc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2104"/>
                </a:solidFill>
                <a:latin typeface="Franklin Gothic Medium"/>
              </a:rPr>
              <a:t>DBT-ICGEB Centre for Advanced Bioenergy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533520" y="988920"/>
            <a:ext cx="8229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268200" y="1255680"/>
            <a:ext cx="4413240" cy="3925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5114160" y="170820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search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800600" y="2209680"/>
            <a:ext cx="411480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Genomic and metagenomic approaches for identifying novel cellulolytic enz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microbes for direct conversion of biomass into bio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microbe for production of higher value advance biofuel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algae for higher lipid and biomass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Application of System biology to produce higher alcohols and alk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ission Programme on Microbial Prospecting: Drugs from Micro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6240" y="1294920"/>
            <a:ext cx="784836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73200" y="1676520"/>
            <a:ext cx="405756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873000" y="18288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57913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29200" y="1676520"/>
          <a:ext cx="3733920" cy="2387520"/>
        </p:xfrm>
        <a:graphic>
          <a:graphicData uri="http://schemas.openxmlformats.org/drawingml/2006/table">
            <a:tbl>
              <a:tblPr/>
              <a:tblGrid>
                <a:gridCol w="2193840"/>
                <a:gridCol w="1540080"/>
              </a:tblGrid>
              <a:tr h="533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o. of Microbes collected- ˜  2,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o of 3* hits- 16,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in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c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diabe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inflam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15"/>
          <p:cNvSpPr/>
          <p:nvPr/>
        </p:nvSpPr>
        <p:spPr>
          <a:xfrm>
            <a:off x="325440" y="4267080"/>
            <a:ext cx="8686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hemical characterization of selected hits for bio-a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Present Stat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1147 extracts have been prep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62 extracts are selected based on chemical analysis for Complete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dentification of 17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6"/>
          <p:cNvSpPr/>
          <p:nvPr/>
        </p:nvSpPr>
        <p:spPr>
          <a:xfrm>
            <a:off x="790560" y="166212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6699"/>
                </a:solidFill>
                <a:latin typeface="Calibri"/>
              </a:rPr>
              <a:t>Recognized as an International Deposi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838080" y="1295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uccessfully preserved 250,000 bacterial cultu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03160" y="2133720"/>
            <a:ext cx="72932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DA service operation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eceived 121 microbial cultures (88 bacterial and 33 fungal) as general depo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7 cultures deposited as patent deposits under the Budapest Trea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06280" y="48211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  <a:ea typeface="Arial"/>
              </a:rPr>
              <a:t>A Microbial Repository was  established at North-Eastern Region of India at IBSD, Imph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64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nservation of Bioresources: Establishment of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26080" y="844560"/>
            <a:ext cx="86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untry’s largest Microbial Culture Collection Centre Set Up at NCCS, Pune</a:t>
            </a:r>
            <a:br>
              <a:rPr sz="1800"/>
            </a:b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ree Algal Repositories were established for the algae collection at IBSB, Imphal, Bharathidasan University, Tiruchirappalli and CSIR- Institute of Minerals and Materials Technology, Bhuvanes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06280" y="3997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Arial"/>
              </a:rPr>
              <a:t>Microbial Type Culture Collection facility at IMTECH,  Chandigarh </a:t>
            </a:r>
            <a:r>
              <a:rPr b="0" lang="en-US" sz="1800" spc="-1" strike="noStrike">
                <a:solidFill>
                  <a:srgbClr val="953735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953735"/>
                </a:solidFill>
                <a:latin typeface="Arial"/>
              </a:rPr>
              <a:t>Recognized as International Deposi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42360" y="3409920"/>
            <a:ext cx="62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ublic domain link:-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www.nccs.res.in/mcc/index.html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noj modi</dc:creator>
  <dc:description/>
  <dc:language>en-US</dc:language>
  <cp:lastModifiedBy>manoj modi</cp:lastModifiedBy>
  <cp:lastPrinted>2013-05-17T09:50:22Z</cp:lastPrinted>
  <dcterms:modified xsi:type="dcterms:W3CDTF">2013-05-17T11:19:20Z</dcterms:modified>
  <cp:revision>82</cp:revision>
  <dc:subject/>
  <dc:title> National Bioresource Development Board  </dc:title>
</cp:coreProperties>
</file>